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48.png" ContentType="image/png"/>
  <Override PartName="/ppt/media/image11.png" ContentType="image/png"/>
  <Override PartName="/ppt/media/image19.jpeg" ContentType="image/jpeg"/>
  <Override PartName="/ppt/media/image25.png" ContentType="image/png"/>
  <Override PartName="/ppt/media/image10.jpeg" ContentType="image/jpeg"/>
  <Override PartName="/ppt/media/image27.jpeg" ContentType="image/jpeg"/>
  <Override PartName="/ppt/media/image52.png" ContentType="image/png"/>
  <Override PartName="/ppt/media/image59.png" ContentType="image/png"/>
  <Override PartName="/ppt/media/image24.jpeg" ContentType="image/jpeg"/>
  <Override PartName="/ppt/media/image71.png" ContentType="image/png"/>
  <Override PartName="/ppt/media/image51.wmf" ContentType="image/x-wmf"/>
  <Override PartName="/ppt/media/image29.png" ContentType="image/png"/>
  <Override PartName="/ppt/media/image74.jpeg" ContentType="image/jpeg"/>
  <Override PartName="/ppt/media/image73.png" ContentType="image/png"/>
  <Override PartName="/ppt/media/image70.jpeg" ContentType="image/jpeg"/>
  <Override PartName="/ppt/media/image35.png" ContentType="image/png"/>
  <Override PartName="/ppt/media/image63.png" ContentType="image/png"/>
  <Override PartName="/ppt/media/image69.png" ContentType="image/png"/>
  <Override PartName="/ppt/media/image32.png" ContentType="image/png"/>
  <Override PartName="/ppt/media/image14.png" ContentType="image/png"/>
  <Override PartName="/ppt/media/image2.png" ContentType="image/png"/>
  <Override PartName="/ppt/media/image1.jpeg" ContentType="image/jpeg"/>
  <Override PartName="/ppt/media/image22.jpeg" ContentType="image/jpeg"/>
  <Override PartName="/ppt/media/image67.png" ContentType="image/png"/>
  <Override PartName="/ppt/media/image30.png" ContentType="image/png"/>
  <Override PartName="/ppt/media/image66.png" ContentType="image/png"/>
  <Override PartName="/ppt/media/image64.png" ContentType="image/png"/>
  <Override PartName="/ppt/media/image62.png" ContentType="image/png"/>
  <Override PartName="/ppt/media/image28.jpeg" ContentType="image/jpeg"/>
  <Override PartName="/ppt/media/image60.png" ContentType="image/png"/>
  <Override PartName="/ppt/media/image21.jpeg" ContentType="image/jpeg"/>
  <Override PartName="/ppt/media/image65.png" ContentType="image/png"/>
  <Override PartName="/ppt/media/image15.png" ContentType="image/png"/>
  <Override PartName="/ppt/media/image3.png" ContentType="image/png"/>
  <Override PartName="/ppt/media/image33.png" ContentType="image/png"/>
  <Override PartName="/ppt/media/image61.png" ContentType="image/png"/>
  <Override PartName="/ppt/media/image5.jpeg" ContentType="image/jpeg"/>
  <Override PartName="/ppt/media/image50.png" ContentType="image/png"/>
  <Override PartName="/ppt/media/image26.png" ContentType="image/png"/>
  <Override PartName="/ppt/media/image8.jpeg" ContentType="image/jpeg"/>
  <Override PartName="/ppt/media/image39.jpeg" ContentType="image/jpeg"/>
  <Override PartName="/ppt/media/image17.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6.png" ContentType="image/png"/>
  <Override PartName="/ppt/media/image4.png" ContentType="image/png"/>
  <Override PartName="/ppt/media/image7.jpeg" ContentType="image/jpeg"/>
  <Override PartName="/ppt/media/image38.jpeg" ContentType="image/jpeg"/>
  <Override PartName="/ppt/media/image72.png" ContentType="image/png"/>
  <Override PartName="/ppt/media/image12.png" ContentType="image/png"/>
  <Override PartName="/ppt/media/image49.png" ContentType="image/png"/>
  <Override PartName="/ppt/media/image13.png" ContentType="image/png"/>
  <Override PartName="/ppt/media/image31.png" ContentType="image/png"/>
  <Override PartName="/ppt/media/image34.jpeg" ContentType="image/jpeg"/>
  <Override PartName="/ppt/media/image3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EF2B9-E14E-4F4D-8098-E2D58D325C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B9235A-575C-498A-A499-F78CD464E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4F6FE5-DA49-4953-B1AA-ECA667B1D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1B0CF-9B69-4188-849A-AC830354E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F454A9-39A3-44AA-B1FF-DFE17085F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ACD45-69E0-486B-9B17-5A7A26F8F7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6FC83D-C301-45E5-B114-6871ADB2C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5719C8-BEEC-4DA1-9824-90CFB14EFD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5A91D4-5F68-473A-88B7-A2F49EA822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B98EF8-1ACB-4CAE-8C6B-86E40347C0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A462B-81DB-49F8-97DF-FCE4F660E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7F592-EAC5-4DD7-AC6E-9951729DA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7FFA3-5B90-45EA-8C39-8C27E69D3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0AB69A-A35B-4019-A74E-90AC4A0C53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7CC8A4-6B32-4BC6-AF82-721608102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54C70-9084-43CD-96DB-49BC721724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E92C0-26BC-4B32-B6FD-46C254AE8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B67F79-E247-41E1-B5DA-5C7ADE5C2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1BBAB-66CB-4928-8AAC-2700168BD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E1307E-6780-4E45-9EA7-C0BDF8B70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9F9A77-FF06-410B-B5CE-871D653CA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4BCC1C-F3DB-45BF-8DBD-3AB9EFCBE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4FAB16-DA8E-4582-B8BF-21A671CCF1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38BDE3-70BB-4C1F-A763-4B66D0813B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43221F-7413-4076-9CC0-E6465E8B6B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F38FBC-E7EA-414F-9F91-8CE2716DAE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C66968-12AD-4A05-BF25-7AA5631985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6614B2-4510-45DD-876B-7C1DE815C1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0DAE93-2D6F-4FE3-983C-650996090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D0E7-0DF8-472F-9BD4-247E72D3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D99980-0E60-4948-A0EC-92017EEC27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7BE8F7-5123-42D2-9059-D6B57853EE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EF7F25-E402-4B62-978A-F9FBFEA95D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0D4BC0-4403-437D-9D3F-4BEC88CD43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0501AE-32CE-47A5-9519-C1DB02A6E3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D25AC4-DEBB-4880-9B62-69AB40500F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8900C7-2312-492E-ACA0-41A1CB039A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290A69-A733-443C-973E-A934081225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B8928A-F818-49C6-ACF3-B0BABAC3A1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C92738-BCF9-4C83-9B85-15589D356A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CD9E5-E6BF-4B92-92C5-D1215E00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F130E6-F6F7-4470-A4FB-F17A958B06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ED61F-4FCF-47E3-A65F-27F494E922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BD5614-94C7-4CE9-A147-2F186C4405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223A29-5788-48B3-862A-ED1E1D6E17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D4B9E0-4AC9-4A09-A31F-9D2313D2B4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25C3E2-BEE8-4FA6-809A-1075D54FD2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063001-561E-4807-8F1F-187F18741C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F16DB-5E02-4E87-A8E3-A65CA3190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D455-678B-4A48-B739-BFED5A9B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FF51F-2C04-424C-8E8F-F4B0FE5AB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F834-6383-432B-B2CB-67BD9837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22B5-E6B8-4FD0-8602-155BA5168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456B-2EEE-4668-8CD1-2DB1C0AA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ADB5A-1317-4BDC-9B31-1DC22FBD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F145E-1C5C-4898-B51A-D76C1304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1C90A-95C8-4257-8CD4-E8A658A71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4A477-67FA-4F1F-A482-3B70AF0CC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3E2D7-6573-4003-AB99-61B0345AD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07A06-AAEA-45C7-93B4-3F8086B58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ECCF-4421-483C-A87F-8F86CC35F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1AA13-8B42-4D51-941A-7B5CDE31D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82092-C22B-411A-8CCB-2D54F0F8C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A0C1C-E5CE-4342-A1E4-652F6FFFF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1E807-619D-4E29-A34E-C37A2CB78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95ECA-6A68-43B2-8DA3-F34173B0D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B9227-3A0C-4C24-B748-991B250B4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E9112-10C5-4D33-8DB4-49C72DAB1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A3CCC-4922-4EA6-B275-343141DDC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A9B84-5737-4DA0-9A57-7B941450AC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0E5A3-4CF6-4A18-B8E0-5A042447F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FE51C-A0EA-4988-935D-EA8D7CC57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8D17C-674A-477F-A466-84FE64BDA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B5224-633C-40AE-A0A6-78468CAAA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6E4EF-6FD7-4936-B202-42F983A0D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5C735-06D0-4989-9653-7FA0B02E3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AAA3D-09B1-4C42-8B60-DBE87A05E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853E8-3E25-4519-AED8-60C400166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06D0B-3FE5-45AE-AF33-32CC1FB4C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9997EF-E771-4309-ACB0-572DBC2FA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EAB7F3-B5D3-4ADE-B3B7-23ADCCF8F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4E2D3E-510B-43EF-BFBB-30320B73CA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658B5-BAAA-44DE-B85F-A5498F4E3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DAEB0-3CE2-44A0-BBEB-9DCFBA86AC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6D7C2-B53D-4E79-99DF-EB44793C6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D103E-0C7E-4E18-A051-1D4CEF445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07780-B0A2-4034-9C2B-F27EED270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3C6AE-38E2-4B18-BA32-DA7F2500E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62EA6-41D5-4F69-9BE5-A30209497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8ECC7-EC2E-4A20-8E6F-2C4795826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703FA-A558-4D66-9FBB-F7CA32DE9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9C66F-E1FF-4327-969A-F7BCD840E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96D30-E43A-4DF1-AD04-5FBB2D4AB5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2EE44D-B186-4B74-9B7F-FAE7B4705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08DE0-E4BC-4EB6-8D1F-3A2BBB85E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6F686F-9E5C-49F7-AE9D-2BF320591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ADAE8-BAAD-437F-AC32-3F7542092D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58BD2-059F-4AB2-8904-41E733FC1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24644-823B-4ABD-8F29-3AFB4377B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47635-BEF6-4EB3-9F49-D27593F03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344C0-8C2B-4084-87DC-1609C287B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BF4CF-8451-49A0-A3D8-8D577324E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A194E-8E69-45C9-B737-C5FFDDB40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EAFCFF-B634-406A-8BE7-5FD062F8E9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10B2C7-15FB-4DC4-A0E3-20B4F4609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62080B-78CD-4D8F-8732-60FAF4CD13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95A4E-572B-4664-A193-E4620332B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CBB8B-A894-4F61-9E88-60A56EB6F9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895BF-FAF3-4EE4-8AA4-4B12C1F04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8E092-4545-413E-8EDA-224A592C9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A2EF68-2505-494F-BDE4-85144CBB5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33DC1-961F-4348-AC98-BF2CFB58B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F6B01-42BC-4152-A7FA-1EE45EB6C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71A74-5A9D-4D46-A32C-3DE470BE4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30A93-DF1D-4CA4-9FA8-D8DF65BC5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CB4099-E04A-4AFE-ACC7-1D591FD63B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5CE132-118B-4AC6-BCD1-A551C10C89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6838C8-642C-4C00-B4B5-6F2D8962D4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EAD88-DC80-4F83-BFAA-435F3AE0C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3BDA7-2F70-4791-9513-7E37D9E70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DD659B-A167-49A7-B609-960F264615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4458B-234B-4A82-9226-42CE65AB2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6F719-7181-4F7A-BB0B-91CA0E785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7131B-13D4-4169-8CE3-66E20B43A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8C569-A083-4488-A505-F6A1738F1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5636B-C16E-4544-A8F0-A4C2360BF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BEDB2-60E6-4473-9271-6D26DF22E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8662B-05AD-4D7B-8ABF-A9F69959B9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E4F920-869A-4CA5-AA97-A9D1C21EC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6026A8-3961-4032-A42C-4BE756CC3B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FBD14-B900-4180-B856-FF3C78F320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1544E-B08F-437D-AFDD-9C44C6831C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9106-CAE1-4BAE-8A95-E8DEA265EDF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9D35-BEAC-4D22-A3C7-D79F3FA0419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2F47-AD9E-4935-AE44-60153EF3E87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DD72-33B8-4BE3-A879-23E4057FC2C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4838-F8B2-47B7-821C-373FC806182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AC6E-583E-4025-8770-245BB8CCE86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3C09-4502-4617-99E1-66674400D2C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24BE-684F-46C6-970C-AA865EE163D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1487-DF2C-4B14-925A-158D959215D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6A5E-34D8-41A4-8ABE-C9266F9C7C4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8538-F14A-413C-8913-16455B9603A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3.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1.png"/><Relationship Id="rId3" Type="http://schemas.openxmlformats.org/officeDocument/2006/relationships/image" Target="../media/image74.jpeg"/><Relationship Id="rId4"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07220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50028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73 Conector recto"/>
          <p:cNvSpPr/>
          <p:nvPr/>
        </p:nvSpPr>
        <p:spPr>
          <a:xfrm flipH="1">
            <a:off x="5428800" y="2786040"/>
            <a:ext cx="1800" cy="7873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9" name="81 Conector recto"/>
          <p:cNvSpPr/>
          <p:nvPr/>
        </p:nvSpPr>
        <p:spPr>
          <a:xfrm>
            <a:off x="4286160" y="3357720"/>
            <a:ext cx="27860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20"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1"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2"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3"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6" name="100 Forma"/>
          <p:cNvCxnSpPr/>
          <p:nvPr/>
        </p:nvCxnSpPr>
        <p:spPr>
          <a:xfrm rot="5400000">
            <a:off x="5982480" y="4303440"/>
            <a:ext cx="72000" cy="1180440"/>
          </a:xfrm>
          <a:prstGeom prst="bentConnector2">
            <a:avLst/>
          </a:prstGeom>
          <a:ln w="9360">
            <a:solidFill>
              <a:srgbClr val="92e852"/>
            </a:solidFill>
            <a:miter/>
          </a:ln>
        </p:spPr>
      </p:cxnSp>
      <p:cxnSp>
        <p:nvCxnSpPr>
          <p:cNvPr id="727"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8"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9"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30"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1"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2"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3"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4"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5"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6"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7"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8"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9"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40"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1"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2"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3"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4"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5"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6"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7"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8"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9"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50"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1"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2"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3"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4"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5"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6"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7"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8"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1 Rectángulo" descr=""/>
          <p:cNvPicPr/>
          <p:nvPr/>
        </p:nvPicPr>
        <p:blipFill>
          <a:blip r:embed="rId1"/>
          <a:stretch/>
        </p:blipFill>
        <p:spPr>
          <a:xfrm>
            <a:off x="3981600" y="1255680"/>
            <a:ext cx="3814560" cy="536760"/>
          </a:xfrm>
          <a:prstGeom prst="rect">
            <a:avLst/>
          </a:prstGeom>
          <a:ln w="0">
            <a:noFill/>
          </a:ln>
        </p:spPr>
      </p:pic>
      <p:sp>
        <p:nvSpPr>
          <p:cNvPr id="760"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1" name="3 Imagen" descr="1798656186_36cdb6abae.jpg"/>
          <p:cNvPicPr/>
          <p:nvPr/>
        </p:nvPicPr>
        <p:blipFill>
          <a:blip r:embed="rId2"/>
          <a:stretch/>
        </p:blipFill>
        <p:spPr>
          <a:xfrm>
            <a:off x="3714840" y="3929040"/>
            <a:ext cx="4286160" cy="2049480"/>
          </a:xfrm>
          <a:prstGeom prst="rect">
            <a:avLst/>
          </a:prstGeom>
          <a:ln w="0">
            <a:noFill/>
          </a:ln>
        </p:spPr>
      </p:pic>
      <p:pic>
        <p:nvPicPr>
          <p:cNvPr id="762"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1 Rectángulo" descr=""/>
          <p:cNvPicPr/>
          <p:nvPr/>
        </p:nvPicPr>
        <p:blipFill>
          <a:blip r:embed="rId1"/>
          <a:stretch/>
        </p:blipFill>
        <p:spPr>
          <a:xfrm>
            <a:off x="3981600" y="1255680"/>
            <a:ext cx="3814560" cy="536760"/>
          </a:xfrm>
          <a:prstGeom prst="rect">
            <a:avLst/>
          </a:prstGeom>
          <a:ln w="0">
            <a:noFill/>
          </a:ln>
        </p:spPr>
      </p:pic>
      <p:pic>
        <p:nvPicPr>
          <p:cNvPr id="764" name="2 Rectángulo" descr=""/>
          <p:cNvPicPr/>
          <p:nvPr/>
        </p:nvPicPr>
        <p:blipFill>
          <a:blip r:embed="rId2"/>
          <a:stretch/>
        </p:blipFill>
        <p:spPr>
          <a:xfrm>
            <a:off x="2541600" y="6181560"/>
            <a:ext cx="1646280" cy="384480"/>
          </a:xfrm>
          <a:prstGeom prst="rect">
            <a:avLst/>
          </a:prstGeom>
          <a:ln w="0">
            <a:noFill/>
          </a:ln>
        </p:spPr>
      </p:pic>
      <p:sp>
        <p:nvSpPr>
          <p:cNvPr id="765"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6"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1 Rectángulo" descr=""/>
          <p:cNvPicPr/>
          <p:nvPr/>
        </p:nvPicPr>
        <p:blipFill>
          <a:blip r:embed="rId1"/>
          <a:stretch/>
        </p:blipFill>
        <p:spPr>
          <a:xfrm>
            <a:off x="3981600" y="1255680"/>
            <a:ext cx="3814560" cy="536760"/>
          </a:xfrm>
          <a:prstGeom prst="rect">
            <a:avLst/>
          </a:prstGeom>
          <a:ln w="0">
            <a:noFill/>
          </a:ln>
        </p:spPr>
      </p:pic>
      <p:pic>
        <p:nvPicPr>
          <p:cNvPr id="768" name="2 Rectángulo" descr=""/>
          <p:cNvPicPr/>
          <p:nvPr/>
        </p:nvPicPr>
        <p:blipFill>
          <a:blip r:embed="rId2"/>
          <a:stretch/>
        </p:blipFill>
        <p:spPr>
          <a:xfrm>
            <a:off x="2610000" y="6108840"/>
            <a:ext cx="1644480" cy="384120"/>
          </a:xfrm>
          <a:prstGeom prst="rect">
            <a:avLst/>
          </a:prstGeom>
          <a:ln w="0">
            <a:noFill/>
          </a:ln>
        </p:spPr>
      </p:pic>
      <p:sp>
        <p:nvSpPr>
          <p:cNvPr id="769" name="3 CuadroTexto"/>
          <p:cNvSpPr/>
          <p:nvPr/>
        </p:nvSpPr>
        <p:spPr>
          <a:xfrm>
            <a:off x="2786040" y="2000160"/>
            <a:ext cx="550080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enior</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1 Rectángulo" descr=""/>
          <p:cNvPicPr/>
          <p:nvPr/>
        </p:nvPicPr>
        <p:blipFill>
          <a:blip r:embed="rId1"/>
          <a:stretch/>
        </p:blipFill>
        <p:spPr>
          <a:xfrm>
            <a:off x="3981600" y="1255680"/>
            <a:ext cx="3814560" cy="536760"/>
          </a:xfrm>
          <a:prstGeom prst="rect">
            <a:avLst/>
          </a:prstGeom>
          <a:ln w="0">
            <a:noFill/>
          </a:ln>
        </p:spPr>
      </p:pic>
      <p:pic>
        <p:nvPicPr>
          <p:cNvPr id="771" name="2 Rectángulo" descr=""/>
          <p:cNvPicPr/>
          <p:nvPr/>
        </p:nvPicPr>
        <p:blipFill>
          <a:blip r:embed="rId2"/>
          <a:stretch/>
        </p:blipFill>
        <p:spPr>
          <a:xfrm>
            <a:off x="2541600" y="6181560"/>
            <a:ext cx="1646280" cy="384480"/>
          </a:xfrm>
          <a:prstGeom prst="rect">
            <a:avLst/>
          </a:prstGeom>
          <a:ln w="0">
            <a:noFill/>
          </a:ln>
        </p:spPr>
      </p:pic>
      <p:sp>
        <p:nvSpPr>
          <p:cNvPr id="772"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3"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8T18:40:04Z</dcterms:modified>
  <cp:revision>90</cp:revision>
  <dc:subject/>
  <dc:title>Diapositiva 1</dc:title>
</cp:coreProperties>
</file>